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807-829E-42E4-AD94-AA87FA75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5EF-3F70-4887-84B4-34EF6196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4429B-7EB9-41DC-B857-DC9541F5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ED0C4-2BF7-4A63-8D6B-2993DC70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AB075-48E2-488E-A975-01CC84AB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6BE18-8960-4559-8B65-750B8E0B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36276-7F6F-4716-A4FB-7EA5867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184C2-A66D-479E-839B-3CEB72B1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B9A51-CB0F-4621-9463-26C2443E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C483F-C0FE-4582-AE3D-2AA864A2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E4BED-C308-485E-BBD0-1835CCC7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E1516-5F38-4B3A-9149-87CD89E8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E5A-917F-4860-9F95-4390B850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881F1-ACF2-4B6F-88E6-CCBF5A04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0BBC8-8C79-426F-B945-2A561997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4D089-2FEE-4817-AFB7-9701AA23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2CC5E-3645-4F28-B76D-0C853577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D8C13-B0F7-405F-BFCC-B4E3003A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DCE0D-0AAE-4092-ACE9-9ED582B7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10C13-64D9-477B-970A-E01FDFF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1F7F1-87BE-49BF-B9E3-17343B5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11BD3-6ABB-41A9-BB95-813282A3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4F477-4565-4C51-B496-A547DA98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DE8-FEFB-404F-9298-96ABF3DB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DCBEC-02B2-4D3A-A40E-CA49F9BD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96977-D2CE-41AC-BDC5-421E80A4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AB30B-FF28-4727-9385-710FB220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533FA-95F2-4DE4-BB3D-4185A75F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45604-43E8-45B9-B4EA-BF769B9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B292A-0C0E-4C40-82D6-3F106BA6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29C82-3AC5-4404-A4AC-570F49F6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FF585-A136-4B29-A397-D1606C2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4BD7F-2B2D-4B3A-AC8C-11B9592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D83D4-C737-4AB4-A849-65FCC89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38C6-6C03-4665-993A-9443414C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BB6A6-DAE3-4D8C-8ABC-3B2FA909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0EF5A-F3C3-4E75-B6B2-4B80ABF0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DC1EC-0039-4DC4-B04D-AA7D070D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7A99E8-22A5-4696-815F-1C9E35AA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D9149D-7EB2-47A1-938D-65542497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E8196F-BDD0-46A7-A95B-6C94DAE8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F520A3-B61C-47E3-8051-35E44132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836AED-F7A4-4D21-B2B0-E09573C3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6A8805-0FA0-4899-A03E-2605F12A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C2AE2A-B3D3-4CF4-852B-B8AC805D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F5A0-9C65-4BB8-94C6-AFBDAA2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01F442-A05F-447C-9376-7CF1497B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2CD371-2394-4AE4-BB0C-D5F3174F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049A25-E14D-48E9-ACED-48CF85EC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90A97E-2040-4E99-AE3C-8777CBB6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602483-6601-418F-BB93-718EAC6A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5117-556F-46C3-BA53-D52243B2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C362-B3C0-4835-B245-8A2B0EE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2A14-6413-49DB-8132-0262B7AA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E572-DDBD-45CB-B69D-81D47063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1505-DDF6-49B5-94AD-83A428D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87D-96E3-4BA9-88BE-813787AE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7A3B-C9C8-480D-BA87-6E08AA76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6D3D-06A2-4397-8ED1-B207EE2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93A0-BA8C-43A4-816B-C5F7E3B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FC2C-4143-4083-A57C-70F56532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A684-10C4-42A2-9E28-981A0A41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486B3-96ED-4111-964E-DB815139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5C46-EFE0-4D96-8E8F-9AD4080F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F4A0-B47C-4C5D-A760-AB0648D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4D57-68C0-4D48-9A5E-013E432A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D979-F5C5-4CB1-8394-802397EF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74E-B932-49FE-AC8F-2F7968E3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74BE-9146-474F-96C6-0850FBEB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3C13-D601-4447-9059-F756B3A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C9C5-0D4C-43D1-8DA3-64CB1A4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27EE7-0E23-42B2-A4F9-3E5094F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6449-0E00-42BC-BF95-ECBCFD3A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BA56-A7AF-49B8-8C9F-1DF5F76F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96DA-B4E0-4CAA-B689-65924F97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7C6BD-DF7B-4CFD-B09E-B0A0A562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A49EC-C027-4A23-A3B3-9A263440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CE7FE-8530-4630-A591-7E4733F3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B56-38CE-47E5-96BE-281BD254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3A670-AA86-4AB7-8ADC-E8E768B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D539F-F9DA-4480-8BA1-FB58B8DD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21CED-38FF-4D4B-9EA1-9290C2AC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6D448-74C1-4C0F-A3C6-470B4BB5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2788D-5EC2-4885-ACB1-C0539DE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8301D-DAFC-401D-B365-30F939C3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83265-7ED7-450C-9EEF-456D124D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31F44-7FA1-4856-AE80-962902B7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0C66A-5230-415C-AC5D-7B6B7F9A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D2283-F2AB-4F46-93D8-44489C7B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936-AD34-4E5A-85FC-B3138CB7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0F43-E8E9-433C-9E8C-25D92605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AA40D-1A5D-430C-80B3-DD488E55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9D47-BF12-4549-A4F0-B06997C3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7AE7-650C-4126-B73D-4472ED24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2792A-8223-4AAD-84E3-0BA08039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7E3B-8B6E-47B7-9DED-221B73E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B4DF-6EBF-4AB4-99B1-542E6F15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BC46F-59AE-4D10-A9DE-BF8DB0B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0219-0D67-42A9-AD0E-F4B459E6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6481B-8C2D-472A-9ADF-990EEE80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F79-36F6-46B3-99F4-5EF86C98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F6B7B-EFB6-479D-866F-6490E5C7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FB39-D882-45BE-9744-BAB68728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B81B9-CCEB-4D64-9133-E682B37A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EDB78-15B4-47E7-AB7E-1C45201D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40DD-B7E4-43D0-89D3-6313CD7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1C1CC-2FC6-4DFE-936B-4A5CA53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7CAF-9CE2-4E74-9376-5E82D63E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12BE-3A85-4DEE-98CB-D2B63F86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78867-B932-45AE-866D-E8C329DB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BBD55-B316-48EE-B028-AF29C34E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9EA-F044-4231-AC27-C01308A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0EAC8-4713-41A2-9AFA-4E8B3600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9B786-F947-4260-B493-9A944B1E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0E4AD-1635-47FD-8BF9-06F2DD15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89D05-465F-4034-BCD3-E41D8889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9D500-5941-4E9F-8BC6-BE703E01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6CFD0-0C61-4E74-930C-0DE1A76F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C1A61-B001-49C9-A1E3-D02D310B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0936E-EC5E-48F1-9DCE-47D158DF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D8AD4-118E-4779-B5B2-50360A54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5A7DC-C031-4058-BBD0-90ECB3B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9F3-7DD8-4031-83A5-8650E1DF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186C3-AF4B-4BE2-9C3C-F7B4785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394F1F-1481-445C-923E-F245541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47445-8BE4-4E2F-8110-3BF8363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0812D-91EF-4A7E-B0FC-73A6487F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946861-00CB-476A-9FFB-CA9E889B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9FFFE-7609-4416-B33A-F69B7513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8C8F1-9B2A-4F17-93A3-D2520D51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07450-9F17-446A-A6B0-7280BFF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FA710-4357-4416-B9F2-12F8E5D8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A6A9E-5172-463E-B711-D5FA1249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CC6-FB61-4704-814A-D2F82EE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9A1BF-1EF9-4357-B16C-54447228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B015-AD00-4A52-A386-CAFFC73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3546D-551B-4602-9B83-D7625F8F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D80A5-48C3-4FEF-B873-61D98955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244C0-16B6-4A42-A787-CBA6D3A3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AE607-7F73-46D9-B532-1C6FC9CE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F0D2B-5988-49AA-8C3E-7194A1B7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0ACB2-81AC-48A7-880F-24843D20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EACB2-D549-4254-A325-AFBDCD3B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B9CE3-EC08-489F-A030-A25CF5D4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50CE-68D1-46F1-AC9E-4E3633A8185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1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65E3-83D5-480E-A960-BFC7179582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08C1-0E2F-412A-87EF-5E760D06C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FA04-C710-4A51-B554-6A4C17F27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D154-38A4-4D4C-9394-838BB4E8FCF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B010-702F-4A75-BEE5-CC6AF0F41C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9DDB-DAA5-4328-BD47-34132996FD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0332-BD03-49A3-8528-8506CDB68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CBC0-EC09-429B-B674-E2EE3010D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91AD-1F65-488E-8458-08B93B77AC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7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7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7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2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B642-10FB-4F63-947A-DDE822466D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6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2CD1-B0D8-4BAE-9076-A3E3C75592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Curlz MT"/>
              </a:rPr>
              <a:t>La mansion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Gigi"/>
              </a:rPr>
              <a:t>Por scarlet braganca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9bce5"/>
                </a:solidFill>
                <a:latin typeface="Rage Italic"/>
              </a:rPr>
              <a:t>la casa </a:t>
            </a:r>
            <a:br>
              <a:rPr sz="6000"/>
            </a:br>
            <a:r>
              <a:rPr b="0" lang="en-US" sz="6000" spc="-1" strike="noStrike">
                <a:solidFill>
                  <a:srgbClr val="49bce5"/>
                </a:solidFill>
                <a:latin typeface="Rage Italic"/>
              </a:rPr>
              <a:t>es muy grande!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5272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427a"/>
                </a:solidFill>
                <a:latin typeface="Imprint MT Shadow"/>
              </a:rPr>
              <a:t>El bano</a:t>
            </a:r>
            <a:br>
              <a:rPr sz="4000"/>
            </a:br>
            <a:r>
              <a:rPr b="1" lang="en-US" sz="4000" spc="-1" strike="noStrike">
                <a:solidFill>
                  <a:srgbClr val="f8427a"/>
                </a:solidFill>
                <a:latin typeface="Imprint MT Shadow"/>
              </a:rPr>
              <a:t>       la baño es muy boñit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a40a1"/>
                </a:solidFill>
                <a:latin typeface="Arial Black"/>
              </a:rPr>
              <a:t>La Cocina</a:t>
            </a:r>
            <a:br>
              <a:rPr sz="4400"/>
            </a:br>
            <a:r>
              <a:rPr b="1" lang="en-US" sz="4400" spc="-1" strike="noStrike">
                <a:solidFill>
                  <a:srgbClr val="fa40a1"/>
                </a:solidFill>
                <a:latin typeface="Arial Black"/>
              </a:rPr>
              <a:t>     es Grande e Fabulos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ff"/>
                </a:solidFill>
                <a:latin typeface="Tahoma"/>
              </a:rPr>
              <a:t>El Cuarto</a:t>
            </a:r>
            <a:br>
              <a:rPr sz="4000"/>
            </a:br>
            <a:r>
              <a:rPr b="0" lang="en-US" sz="4000" spc="-1" strike="noStrike">
                <a:solidFill>
                  <a:srgbClr val="cc00ff"/>
                </a:solidFill>
                <a:latin typeface="Tahoma"/>
              </a:rPr>
              <a:t>Es Muy Comodo e Lujoso!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Snap ITC"/>
              </a:rPr>
              <a:t>La comedor muy lindo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Rockwell Extra Bold"/>
              </a:rPr>
              <a:t>    </a:t>
            </a:r>
            <a:r>
              <a:rPr b="0" lang="en-US" sz="4400" spc="-1" strike="noStrike">
                <a:solidFill>
                  <a:srgbClr val="3333ff"/>
                </a:solidFill>
                <a:latin typeface="Rockwell Extra Bold"/>
              </a:rPr>
              <a:t>El Patio! E muy </a:t>
            </a:r>
            <a:r>
              <a:rPr b="0" lang="en-US" sz="4400" spc="-1" strike="noStrike">
                <a:solidFill>
                  <a:srgbClr val="cc00ff"/>
                </a:solidFill>
                <a:latin typeface="Tahoma"/>
              </a:rPr>
              <a:t>Lujoso!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5400" spc="-1" strike="noStrike">
                <a:solidFill>
                  <a:srgbClr val="99ff33"/>
                </a:solidFill>
                <a:latin typeface="Tahoma"/>
              </a:rPr>
              <a:t>El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99ff33"/>
                </a:solidFill>
                <a:latin typeface="Tahoma"/>
              </a:rPr>
              <a:t>Jardin e muy bonit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 e muy gran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0769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37:55Z</dcterms:created>
  <dc:creator>bragancasca</dc:creator>
  <dc:description/>
  <dc:language>en-US</dc:language>
  <cp:lastModifiedBy>bragancasca</cp:lastModifiedBy>
  <dcterms:modified xsi:type="dcterms:W3CDTF">2011-04-13T13:29:00Z</dcterms:modified>
  <cp:revision>6</cp:revision>
  <dc:subject/>
  <dc:title>La mansion</dc:title>
</cp:coreProperties>
</file>